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DFEE-18FA-4E70-9754-0B3007FE7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5076-F49A-4DDB-B5FC-3A1F95221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1683-B60E-4908-89D3-B77907BCF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AFFD-B57A-4364-BBCE-6D4E279BF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0116-8455-4FC1-8338-50872E7DB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264E-88E1-4600-9CE8-22B358FFC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A13C-96A5-45CD-89C9-F9DC85550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AA5C-CC20-4BB1-8D92-F7EB8D971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0FF1-7E69-4D22-9325-098CD1B57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1892-DEA8-42C3-95AE-F0AA36C3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A5D1-2D28-414A-A93B-C5472D6FF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E12F-299C-4439-BE3F-77B3F1185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C3A39-0051-4548-AFAA-E7CBB572422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14600" y="380880"/>
            <a:ext cx="4595760" cy="10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BUON GIORN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52480" y="1752480"/>
            <a:ext cx="65534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Buon Giorno! Cia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Come ti chiam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Buon Giorno! Cia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Mi chiamo 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Buon Giorno! Cia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Piacere, 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Buon Giorno! Cia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Piacere 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696080" y="2819520"/>
            <a:ext cx="951120" cy="109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8288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57400" y="2286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RITE THE ITALIAN CORRESPONDENT FOR EACH OF THE FOLLOWING ENGLISH WORDS AND EXPRESS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33720" y="1371600"/>
            <a:ext cx="2743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33720" y="2286000"/>
            <a:ext cx="2743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33720" y="3352680"/>
            <a:ext cx="2743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09680" y="4572000"/>
            <a:ext cx="2743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09680" y="5715000"/>
            <a:ext cx="2743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MPK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19920" y="5715000"/>
            <a:ext cx="2743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572000"/>
            <a:ext cx="2743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943600" y="3429000"/>
            <a:ext cx="2743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943600" y="2286000"/>
            <a:ext cx="2743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1371600"/>
            <a:ext cx="2743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76920" y="1600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76920" y="2438280"/>
            <a:ext cx="99036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876920" y="35812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952880" y="48769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952880" y="5943600"/>
            <a:ext cx="106704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371600" y="685800"/>
            <a:ext cx="85716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8288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228600"/>
            <a:ext cx="6781680" cy="62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ASINO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FUN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BANDIERA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GAT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CILIEGIA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HOT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CASA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IMBU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CHIESA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LU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DADO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ME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ELEFANTE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NA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920" y="228600"/>
            <a:ext cx="17524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PARO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924680" y="5638680"/>
            <a:ext cx="874800" cy="8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8288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33720" y="228600"/>
            <a:ext cx="6781680" cy="62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OCA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PE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QUADERNO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RAG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TOPO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RA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SOLE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SCUO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SCI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U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VASO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ZUC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ANNI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CHIAM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228600"/>
            <a:ext cx="17524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99"/>
                </a:solidFill>
                <a:latin typeface="Arial Black"/>
              </a:rPr>
              <a:t>PARO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99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8288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33720" y="228600"/>
            <a:ext cx="6781680" cy="62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MI CHIAMO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SO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COME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QUAN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BUONGIOR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GRAZIE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CIA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BENE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MALE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COSI’ COSI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PIACERE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HAI-H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228600"/>
            <a:ext cx="17524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Arial Black"/>
              </a:rPr>
              <a:t>PARO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8288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33720" y="228600"/>
            <a:ext cx="6781680" cy="62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__SINO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__UN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__ANDIERA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__AT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__ILIEGIA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__OT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__ASA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__MBU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__HIESA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__U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__ADO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__E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__LEFANTE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__A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228600"/>
            <a:ext cx="17524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ff33"/>
                </a:solidFill>
                <a:latin typeface="Arial Black"/>
              </a:rPr>
              <a:t>PARO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ff33"/>
              </a:solidFill>
              <a:latin typeface="Arial Black"/>
              <a:ea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924680" y="5638680"/>
            <a:ext cx="874800" cy="8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8288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33720" y="228600"/>
            <a:ext cx="6781680" cy="62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__CA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__E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__UADERNO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__AG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__OPO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__A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__OLE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__CUO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__CI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__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__ASO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__UC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__NNI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__HIAM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228600"/>
            <a:ext cx="17524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66"/>
                </a:solidFill>
                <a:latin typeface="Arial Black"/>
              </a:rPr>
              <a:t>PARO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66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8288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133720" y="228600"/>
            <a:ext cx="6781680" cy="53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vantGarde Bk BT"/>
              </a:rPr>
              <a:t>How do you answer these ques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Come sta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________________________Come ti chiam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________________________Ti piace la scuol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228600"/>
            <a:ext cx="17524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99"/>
                </a:solidFill>
                <a:latin typeface="Arial Black"/>
              </a:rPr>
              <a:t>PARO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99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8288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33720" y="228600"/>
            <a:ext cx="6781680" cy="47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vantGarde Bk BT"/>
              </a:rPr>
              <a:t>How do you answer these ques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Quanti anni ha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________________________Ciao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________________________Buongiorno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228600"/>
            <a:ext cx="17524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ARO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828800" y="0"/>
            <a:ext cx="0" cy="68580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57400" y="228600"/>
            <a:ext cx="6705720" cy="63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ay it in Italia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Hello!  My name is Mari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What is your na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Nice to meet you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How old are y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How are y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8288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304920"/>
            <a:ext cx="1371600" cy="1371600"/>
          </a:xfrm>
          <a:prstGeom prst="ellips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191120" y="380880"/>
            <a:ext cx="1371600" cy="1371600"/>
          </a:xfrm>
          <a:prstGeom prst="ellipse">
            <a:avLst/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2057400"/>
            <a:ext cx="1371600" cy="1371600"/>
          </a:xfrm>
          <a:prstGeom prst="ellipse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n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380880"/>
            <a:ext cx="1371600" cy="137160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76720" y="1905120"/>
            <a:ext cx="1371600" cy="137160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t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467480" y="1828800"/>
            <a:ext cx="1371600" cy="1371600"/>
          </a:xfrm>
          <a:prstGeom prst="ellips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38280" y="4952880"/>
            <a:ext cx="1371600" cy="137160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38480" y="3657600"/>
            <a:ext cx="1371600" cy="1371600"/>
          </a:xfrm>
          <a:prstGeom prst="ellips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477120" y="3581280"/>
            <a:ext cx="1371600" cy="1371600"/>
          </a:xfrm>
          <a:prstGeom prst="ellipse">
            <a:avLst/>
          </a:prstGeom>
          <a:solidFill>
            <a:srgbClr val="ff33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562720" y="5181480"/>
            <a:ext cx="1371600" cy="1371600"/>
          </a:xfrm>
          <a:prstGeom prst="ellipse">
            <a:avLst/>
          </a:prstGeom>
          <a:solidFill>
            <a:srgbClr val="ff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4479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971800" y="304920"/>
            <a:ext cx="26668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 Black"/>
              </a:rPr>
              <a:t>Ciao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 Black"/>
              <a:ea typeface="Arial Black"/>
            </a:endParaRPr>
          </a:p>
        </p:txBody>
      </p:sp>
      <p:sp>
        <p:nvSpPr>
          <p:cNvPr id="47" name=""/>
          <p:cNvSpPr/>
          <p:nvPr/>
        </p:nvSpPr>
        <p:spPr>
          <a:xfrm>
            <a:off x="1905120" y="1295280"/>
            <a:ext cx="66294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Ciao!  Mi chiamo Sara.  E tu, come ti chiam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Mi chiamo Car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Piacere, Carl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Piacere, Sara.  Come sta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Bene, grazie, e t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Io sto be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Allora ciao, Carl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Ciao, ciao.  Sara!  A doman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828800" y="0"/>
            <a:ext cx="0" cy="6858000"/>
          </a:xfrm>
          <a:prstGeom prst="line">
            <a:avLst/>
          </a:prstGeom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33720" y="304920"/>
            <a:ext cx="1371600" cy="13716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91120" y="380880"/>
            <a:ext cx="1371600" cy="13716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562720" y="2057400"/>
            <a:ext cx="1371600" cy="13716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72200" y="380880"/>
            <a:ext cx="1371600" cy="13716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76720" y="1905120"/>
            <a:ext cx="1371600" cy="13716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467480" y="1828800"/>
            <a:ext cx="1371600" cy="13716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438280" y="4952880"/>
            <a:ext cx="1371600" cy="13716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657600"/>
            <a:ext cx="1371600" cy="13716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77120" y="3581280"/>
            <a:ext cx="1371600" cy="13716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62720" y="5181480"/>
            <a:ext cx="1371600" cy="13716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828800" y="0"/>
            <a:ext cx="0" cy="6858000"/>
          </a:xfrm>
          <a:prstGeom prst="line">
            <a:avLst/>
          </a:prstGeom>
          <a:ln w="7632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33720" y="304920"/>
            <a:ext cx="1371600" cy="13716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191120" y="380880"/>
            <a:ext cx="1371600" cy="13716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562720" y="2057400"/>
            <a:ext cx="1371600" cy="13716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72200" y="380880"/>
            <a:ext cx="1371600" cy="13716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76720" y="1905120"/>
            <a:ext cx="1371600" cy="13716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467480" y="1828800"/>
            <a:ext cx="1371600" cy="13716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38280" y="4952880"/>
            <a:ext cx="1371600" cy="13716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3657600"/>
            <a:ext cx="1371600" cy="13716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477120" y="3581280"/>
            <a:ext cx="1371600" cy="13716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62720" y="5181480"/>
            <a:ext cx="1371600" cy="13716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4479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971800" y="304920"/>
            <a:ext cx="26668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ff33"/>
                </a:solidFill>
                <a:latin typeface="Arial Black"/>
              </a:rPr>
              <a:t>Ciao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ff33"/>
              </a:solidFill>
              <a:latin typeface="Arial Black"/>
              <a:ea typeface="Arial Black"/>
            </a:endParaRPr>
          </a:p>
        </p:txBody>
      </p:sp>
      <p:sp>
        <p:nvSpPr>
          <p:cNvPr id="50" name=""/>
          <p:cNvSpPr/>
          <p:nvPr/>
        </p:nvSpPr>
        <p:spPr>
          <a:xfrm>
            <a:off x="1905120" y="1295280"/>
            <a:ext cx="66294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Ciao!  Mi _________Sara.  E tu, come ti chiam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MI chiamo Car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_________, Carl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Piacere, Sara.  _______ sta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Bene, __________, e t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Io sto be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Allora __________, Carl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Ciao, ciao.  Sara!  A doman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457200"/>
            <a:ext cx="2057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l in the bla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8288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248520" y="304920"/>
            <a:ext cx="26668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99"/>
                </a:solidFill>
                <a:latin typeface="Arial Black"/>
              </a:rPr>
              <a:t>domand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99"/>
              </a:solidFill>
              <a:latin typeface="Arial Black"/>
              <a:ea typeface="Arial Black"/>
            </a:endParaRPr>
          </a:p>
        </p:txBody>
      </p:sp>
      <p:sp>
        <p:nvSpPr>
          <p:cNvPr id="54" name=""/>
          <p:cNvSpPr/>
          <p:nvPr/>
        </p:nvSpPr>
        <p:spPr>
          <a:xfrm>
            <a:off x="2209680" y="1143000"/>
            <a:ext cx="601992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vantGarde Bk BT"/>
              </a:rPr>
              <a:t>Come ti chiami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38280" y="4724280"/>
            <a:ext cx="6019920" cy="1295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vantGarde Bk BT"/>
              </a:rPr>
              <a:t>Come stai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05120" y="3124080"/>
            <a:ext cx="7238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05120" y="4191120"/>
            <a:ext cx="7238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133720" y="457200"/>
            <a:ext cx="144756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8288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886200" y="228600"/>
            <a:ext cx="4896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Arial Black"/>
              </a:rPr>
              <a:t>Quanti anni hai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Arial Black"/>
              <a:ea typeface="Arial Black"/>
            </a:endParaRPr>
          </a:p>
        </p:txBody>
      </p:sp>
      <p:sp>
        <p:nvSpPr>
          <p:cNvPr id="61" name=""/>
          <p:cNvSpPr/>
          <p:nvPr/>
        </p:nvSpPr>
        <p:spPr>
          <a:xfrm>
            <a:off x="2057400" y="914400"/>
            <a:ext cx="6477120" cy="58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Ciao, Carlo.  Come sta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Ciao, Sara.  Sto bene grazie.  E t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Bene anch’io.  Carlo, quanti anni ha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Ho sette anni.  E t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Io ho sei anni e faccio la prima element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Che brava.  Ti piace la scuol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Si, mi piace molto.  E a 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Mi piace la scuola e mi piace giocare a badmint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Che bello.  Ci vediam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Cia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8288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886200" y="228600"/>
            <a:ext cx="4896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6600"/>
                </a:solidFill>
                <a:latin typeface="Arial Black"/>
              </a:rPr>
              <a:t>Quanti anni hai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6600"/>
              </a:solidFill>
              <a:latin typeface="Arial Black"/>
              <a:ea typeface="Arial Black"/>
            </a:endParaRPr>
          </a:p>
        </p:txBody>
      </p:sp>
      <p:sp>
        <p:nvSpPr>
          <p:cNvPr id="64" name=""/>
          <p:cNvSpPr/>
          <p:nvPr/>
        </p:nvSpPr>
        <p:spPr>
          <a:xfrm>
            <a:off x="2057400" y="914400"/>
            <a:ext cx="6781680" cy="58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Ciao, Carlo.  Come ________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Ciao, Sara.  Sto _______ grazie.  E t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Bene anch’io.  Carlo, ________ anni ha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Ho sette ________.  E t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Io ho sei anni e faccio la prima _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Che brava.  _____ piace la scuol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Si, _____ piace molto.  E a 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Mi piace la _________ e mi piace giocare a badmint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Che bello.  ______ vediam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Cia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228600"/>
            <a:ext cx="2743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l in the bla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8288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248520" y="304920"/>
            <a:ext cx="26668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 Black"/>
              </a:rPr>
              <a:t>domand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 Black"/>
              <a:ea typeface="Arial Black"/>
            </a:endParaRPr>
          </a:p>
        </p:txBody>
      </p:sp>
      <p:sp>
        <p:nvSpPr>
          <p:cNvPr id="68" name=""/>
          <p:cNvSpPr/>
          <p:nvPr/>
        </p:nvSpPr>
        <p:spPr>
          <a:xfrm>
            <a:off x="2209680" y="1143000"/>
            <a:ext cx="601992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vantGarde Bk BT"/>
              </a:rPr>
              <a:t>Quanti anni hai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438280" y="4724280"/>
            <a:ext cx="6019920" cy="1295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vantGarde Bk BT"/>
              </a:rPr>
              <a:t>Ti piace la scuol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3124080"/>
            <a:ext cx="7238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05120" y="4191120"/>
            <a:ext cx="7238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696080" y="1371600"/>
            <a:ext cx="96840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8288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352680" y="304920"/>
            <a:ext cx="5324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Come si dice....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75" name=""/>
          <p:cNvSpPr/>
          <p:nvPr/>
        </p:nvSpPr>
        <p:spPr>
          <a:xfrm>
            <a:off x="2133720" y="1371600"/>
            <a:ext cx="6476760" cy="1371600"/>
          </a:xfrm>
          <a:prstGeom prst="wedgeRoundRectCallout">
            <a:avLst>
              <a:gd name="adj1" fmla="val -50000"/>
              <a:gd name="adj2" fmla="val 74652"/>
              <a:gd name="adj3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Come si dice </a:t>
            </a:r>
            <a:r>
              <a:rPr b="1" lang="en-US" sz="2400" spc="-1" strike="noStrike">
                <a:solidFill>
                  <a:srgbClr val="000000"/>
                </a:solidFill>
                <a:latin typeface="AvantGarde Bk BT"/>
              </a:rPr>
              <a:t>“pear”</a:t>
            </a: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 in italian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Si dice: </a:t>
            </a:r>
            <a:r>
              <a:rPr b="1" lang="en-US" sz="2400" spc="-1" strike="noStrike">
                <a:solidFill>
                  <a:srgbClr val="000000"/>
                </a:solidFill>
                <a:latin typeface="AvantGarde Bk BT"/>
              </a:rPr>
              <a:t>PERA</a:t>
            </a: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362320" y="4952880"/>
            <a:ext cx="6476760" cy="1371600"/>
          </a:xfrm>
          <a:prstGeom prst="wedgeRoundRectCallout">
            <a:avLst>
              <a:gd name="adj1" fmla="val -55810"/>
              <a:gd name="adj2" fmla="val -152430"/>
              <a:gd name="adj3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Come si dice ‘</a:t>
            </a:r>
            <a:r>
              <a:rPr b="1" lang="en-US" sz="2400" spc="-1" strike="noStrike">
                <a:solidFill>
                  <a:srgbClr val="000000"/>
                </a:solidFill>
                <a:latin typeface="AvantGarde Bk BT"/>
              </a:rPr>
              <a:t>hello’</a:t>
            </a: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 in italian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Si dice: </a:t>
            </a:r>
            <a:r>
              <a:rPr b="1" lang="en-US" sz="2400" spc="-1" strike="noStrike">
                <a:solidFill>
                  <a:srgbClr val="000000"/>
                </a:solidFill>
                <a:latin typeface="AvantGarde Bk BT"/>
              </a:rPr>
              <a:t>CIAO</a:t>
            </a: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8288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057400" y="2286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RITE THE ITALIAN CORRESPONDENT FOR EACH OF THE FOLLOWING ENGLISH WORDS AND EXPRESS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371600"/>
            <a:ext cx="2743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2743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133720" y="3352680"/>
            <a:ext cx="2743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09680" y="4572000"/>
            <a:ext cx="2743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09680" y="5715000"/>
            <a:ext cx="2743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715000"/>
            <a:ext cx="2743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19920" y="4572000"/>
            <a:ext cx="2743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943600" y="3429000"/>
            <a:ext cx="2743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2286000"/>
            <a:ext cx="2743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867280" y="1371600"/>
            <a:ext cx="2743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1600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4876920" y="2438280"/>
            <a:ext cx="99036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876920" y="35812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952880" y="48769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5943600"/>
            <a:ext cx="106704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31T03:23:16Z</dcterms:created>
  <dc:creator>VALERIA PALLADINO</dc:creator>
  <dc:description/>
  <dc:language>en-US</dc:language>
  <cp:lastModifiedBy>Valeria</cp:lastModifiedBy>
  <cp:lastPrinted>2003-03-31T04:40:05Z</cp:lastPrinted>
  <dcterms:modified xsi:type="dcterms:W3CDTF">2006-09-03T17:25:50Z</dcterms:modified>
  <cp:revision>15</cp:revision>
  <dc:subject/>
  <dc:title>Slide 1</dc:title>
</cp:coreProperties>
</file>